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29A-CD8E-4CF0-96BC-399E2B7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0BC-1624-433F-9FC1-EF005D0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1D2FD-2D40-4FDB-9E17-1FE1262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111CC-29AE-4482-AD02-AA7D23A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A0B5B-E2D1-4585-A0F7-799BEDC2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1D686-1DB2-4470-BE8A-380E31B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3C74C-2B4F-4C2C-A3CF-5DB7477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9A61-A35B-44F3-93F6-E4BC3559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BEFC-8A6C-4F0A-A08B-F3E1798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296C-164C-4D86-ADEE-EAE06945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11753-7600-4E1E-82F6-27778596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3818-9FA4-436F-9DFA-14279721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B1D-E5E4-4064-BDC5-9697C36D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5D097-94CB-4F5F-B8E9-2FC44D73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9B075-AFEF-41EE-B8EC-B24539F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D16A7-2500-4D09-8025-946348B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D8F50-9588-4AA3-977B-84F69E18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EF2E7-211D-4AF7-9CC4-786B7E4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F83E2-5119-49C3-AA9B-A0CA65D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83CD3-2006-4119-B9BE-4888B77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D0ADA-AE5C-42FE-8E66-062D2270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69C08-5484-40A2-A1FA-0949D85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68B98-FB49-4E19-815F-1E2F3F24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601-ACAF-49AD-9488-2DBF3364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233CB-4980-4F44-8FA3-FE1B589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0BC4-6556-47C5-8D41-89608F60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50C3-9B28-4D24-A1AA-FC1F426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D0432-16AB-40CD-ADA3-D4FABB3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93A6-E951-457D-9704-62D102D1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1880-958D-4BFA-BE51-D179512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2328-4EFB-4002-9920-7E6497C7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0BB85-3C8C-44B4-8629-A4D4858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CB055-832A-4878-B08A-F3A2EF1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D7BCE-6E01-48EE-9D4C-07D95B5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83E6-5CE5-4228-93A4-99F7D1B7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21A14-A9EF-422F-8DEB-B1818A4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C956-52C5-485C-986F-5BCF989E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63C6C-52E8-4D6E-962B-07E443D3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EF3AE-964B-44AB-84AD-4353B3E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B20F-C198-45E2-9D4C-5788DC0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4815D-6DD6-4F9C-9A3E-F0D56053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6B080-2BA2-48EF-BB26-CF394AD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7E79E-6093-4C59-BE53-4E9E488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79201-D4B2-4D3E-BD34-BB67861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ECB23-990F-444B-B4E1-81AF883A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191-CE57-4C20-97C4-8099A48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0C4C7-BFCD-4A50-BA83-65739CB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C5EAA-CBB4-4F9A-95F9-F216225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7835-D794-4F9D-BFB1-653B407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1062-9EFD-49D6-90F0-2E289A0F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EAA31-0E49-467F-9EB4-0453725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DCDCB-7034-46B6-93B9-56B19F8D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9E05F-6806-4561-A468-DF2CDCB1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7F66B-3D9D-4E15-9A6F-742375F7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AAB62-9029-46BC-8104-EA4ECAA7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1793E-BEB2-4A3D-97B7-A2D1BA3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8DE-5745-4844-ACFE-10F8B35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0B5F4-4590-4485-99BD-C5A9529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C2026-C129-47EE-9C80-BB724A6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B5A66-7DB6-463F-8E6D-206C9A1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872CF-FDB6-4FC2-83B4-6B771D0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65784-4B9B-415C-8C56-7F5BA678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9D32F-44CB-4A10-B888-E3EF2249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C8C30-7D9F-4464-B08D-D0F9FDC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35A3D-E6B6-4B17-AA5D-216D63B0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0D414-CBFE-407A-9178-F357707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04983-7296-4862-8735-74DD7A9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4C1-56E7-4E9E-A5B3-A7CE623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9F0C2-F3E5-4D7C-8846-DF5F6D9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46437-FFC0-43AD-BE73-977266D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3D30D-93B0-42CC-9F8C-5F0F3FDC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B1F9E-95AC-4F43-BE39-D72968B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9C72A-5CFC-4BA9-9E60-03B15D0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E7D80-0925-4A18-86A6-F21F500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ED781-F290-46B0-8EF3-C375B8C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01599-BF20-4C53-BBE0-8F5A7BF1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E24C2-9B0A-4CE9-9314-0E470AAE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3871F-F3A0-4755-85B1-38016C18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F10-0413-4AD9-9C5F-0CB768C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9FA9E-0E04-4938-8E39-E7873B7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19491-A3FE-407E-B642-B4B9C11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E1B08-32AD-4D39-9C6F-5316DF7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1C90F-C220-4635-8E2D-66FD617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34B92-773A-47E5-AEE0-9DD90A8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08875-380E-49E3-9A77-9CB81C9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A51CA-C391-4AA0-B12C-606EDD6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0AFBB-6841-4FA6-9F68-78FA114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7346E-1DA9-4F64-AC67-8BFDAA2F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7D8E1-4D81-4618-9A15-060534EB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DF4-F81A-459E-8191-71026F0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BB54E-C2CA-4395-8423-2CA0830A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4FE35-B543-46CA-9418-35CBA3F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4467F-1C8D-4D9A-9F52-80B9D614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FE90F-8648-430C-A7EB-82D2074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BF0AE-C03A-4BB7-8BB8-6592B4A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A12AB-AA89-4E7B-9E25-A79144F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BF205-DA08-4364-8641-B2D55FD2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CC472-982B-4274-9C49-5DAFA2D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8C935-AEC8-4371-941C-EB09992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EBCCF-1DF4-496E-9B1F-49A480F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9B1-A9BF-4467-B46B-65B0519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444F3-AB71-43FB-9679-B45C82A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CE7DA-426C-464C-8109-090A9643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E0065-0738-4B9C-A864-3F07F3CD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347F7-5B77-4F90-B346-F965994F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A9778-E49D-4965-9FD1-1DD8F268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3D644-9C4C-4960-BE89-5B155A90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4D86A-4425-48C1-87EA-BFC828F7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069C7-8AB5-4A88-9DF4-2ACD8C33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39670-D205-4601-9BD1-2B34A45E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07AA4-E159-4275-A947-C0F6B05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481-65A6-4B62-8BB0-35BA8FC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9AF-C16C-4431-84E8-6F57DE7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8A123-C7AB-461F-B672-79401D4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DFF0B-E880-4D19-9F3A-898314D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26538-7D62-4A5A-B501-74993FB8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9E4F6-EF03-4FF2-B537-DFD69BF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DB02A-0DE7-4BB7-93F0-669DEDA6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7F755-324B-476C-9044-0471D46C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5576B-E3A6-4C8B-877E-84EFEA76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5FEB9-670E-4083-AF15-565963E0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DDC0A-337F-4A85-B843-DF26502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8D8EF-9100-4AE2-9E2F-D04DB539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824-13EF-448D-900B-DA571FC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CCD59-0F85-4A4E-AC7C-91B5F69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80119-C834-434E-81E2-E9944BC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AD146-79B9-47C7-BDFA-DB9B9A5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07E75-6A81-43CF-83A3-B2C7F1D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ACF2E-E55E-4DA8-8B52-C95F80E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F611C-A2D2-4601-A40C-CDC3867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E9A8F-28A0-48D7-9057-CE5762F9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0A573-FDC8-4C59-AFF8-5A76B276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78869-BD0F-4818-AAE6-57B0521C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07C8D-92A2-4816-B9F5-BA4491A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63B1-8517-4D79-90B3-1B8E382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80758-7979-4BD9-BB6D-C0B70B6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CB664-A93D-4C44-A499-D020A29F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3A27D-83ED-4ABC-A4FF-C38FDB1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EFAC9-F38A-412F-B0A5-5E62608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1C419-6C93-4BFE-8231-A1DB391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F9D06-36E5-467D-ADD4-40A57CB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7A6BD-2205-4F95-B46D-FC13FA50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E7069-D345-4B40-AA26-83401B37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3EE45-A39E-4F48-86D8-2E3A7BF3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80DEA-46B6-4534-A11B-A4B5CA6B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70BA-B7BB-4C8B-A135-6A011A2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C4170-F46D-4EE3-9705-DB2952B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EB635-CEA2-442B-8C30-B1BA621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6F8C9-EECA-4C9F-990B-4BB0B485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C01B9-71C5-4645-8AEC-0583452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98FB0-27CA-417F-A366-080E0CAA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26D9C-AFE3-497B-BF83-5082CBD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5C034-30D6-4DD4-ADFF-614994D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35FD4-C556-4FB5-8C75-8926010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92045-AE4C-408D-9DA7-3B999CD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C3A6A-796E-47A0-9F69-561C9394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3B59-50AD-48C6-89B4-2320D529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02174-092B-4997-B62D-658C3EDF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DB086-2FE8-466C-9C13-C1F32569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D3EC6-5DB2-4157-B082-6AF1FDA8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ECC9CF-0C6E-4B30-B92A-DADF9506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09E31-1EED-42AC-B82A-45A8F9CE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58E8CF-A2E8-4F4A-AD00-19B5B051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2BBA3-EB53-46B7-9361-B7BDB672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69238-3337-4A99-878D-1BEE4A2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2A6D8-4AAE-42A0-98CB-6125D29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D1518-4E11-43D9-B0E3-A5DFB1D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5FF0-1977-43F4-B07C-3AA321DA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EB46A-0B6F-4AD5-95EE-2E1D8BB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A4D3E-9224-4194-9991-6A06C40A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8A644-B170-4F72-B4BD-00D2E03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E247-B146-40D8-8D54-A0F80B60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C57B-78FB-46F6-B5EE-13333136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9A6D-456A-4B51-84D2-F46B3F4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826A-D9F5-48E1-BE19-B8F6EE75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3D9-6795-46D6-AAA9-E7858F0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5102-5981-4013-BF3A-E34AEF7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202B-7731-4B3C-B058-E4792FB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2AFD-2664-4EDF-8FBA-D2DCB76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DE1F-357E-424F-BBED-CC0CDFE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2A81-7F77-4A28-BB99-0339A09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83ED-C2F0-4C31-9EB2-DDDF8408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A880-8410-4CF5-9A9B-7865D939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5319-B58B-41C3-B32E-BD650CCB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AB3D-561C-43D0-A589-8448646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7479-4D00-4885-99EE-2F25627A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2E1-9131-4597-BF38-ACEA3E3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548E-C851-45B1-ADFB-21F51610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F942-42A1-434A-B1E1-A7886FA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B1F2-9B73-49EC-9CF2-180E4860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601C-151E-4C41-B88A-BBAEBF3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D38B-48DB-41FC-BC3A-ECF1DCD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027B-7F43-4FFB-9631-C488C08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FD06-F303-41C4-BED8-2CF41E8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DDAF-B166-42C1-8FDB-B44D04A8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67D1-B85C-4F20-B128-2AACA5F1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E630-4833-48BC-B853-75EB1D79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192-90B8-4589-ABA4-F441DB55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069C-B37D-4F20-B1B8-ABAC8F22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8723C-EB8E-4DA5-8975-304026E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42AD-7BC1-4819-8548-272FC0A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7B20-ACCC-4464-910B-E354560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BFBF-E954-4133-94AC-01E939C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E67CF-8BE2-414E-BACD-9C04C73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D833-E80C-4490-87A9-C29ED53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BA86-B039-4912-9C1C-2D64D04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061E-F942-47AC-BEC0-52214B8B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9BAB-437D-476B-9D48-A9A3F820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86E-3D51-43A2-9FDD-245E002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90E9-989E-4056-8858-CDF00704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9188-19F3-4CF6-8B02-45490DD9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382F-C765-4D1B-952E-7BCCB933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6783-785B-4FCD-816E-8C0A360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BBAC-643B-4A06-A77D-2FBB4E3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7222-9757-4292-B8FB-6FB3B42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48EC-0B78-4F8E-BBC1-B86EBBF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ECDD-631A-48BC-ABCC-D7A4798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8609-F3DE-4489-96BA-F41B7F9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8FAEF-D177-4793-A5EF-5D2F886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871-A0D4-4FB4-98CF-D633AB1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8515-005B-4A19-B434-DDF9A56A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D952-CF66-40ED-9CD0-E1B99393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6E7B-F751-43F9-A7B3-64D8FA17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F354-28D4-47B5-9775-E4ADDC0A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3539-83B5-4F93-BD79-AFF7846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560C-61E7-4350-BD51-A2DABBE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D4CC-A9C4-4DEE-A378-67E4BEFE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E52C-B95C-41D4-99B3-DB1DA264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927C8-6CAB-4104-8AB1-3EACBA59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27D1-4A0D-48A8-9AB1-1A2031C9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A7F-A524-4B44-B27A-E04A407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F8D67-0F1F-4565-AC1B-DDE3B51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86E8-4AE8-497C-9EC6-3DC968E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63FA-EF49-4513-BD13-9A3B332A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C8195-EED4-422C-A513-0F6B74C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01D94-197E-4408-A8DA-67EF0141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21AF5-2B11-4B1C-A099-E820218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FEE81-70EC-4474-9AD5-B6FCDD3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565A-6E79-4BD1-AC4B-B519FCFF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DB16-5762-4CBD-B477-95B3D98D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B57B-C964-4AA2-B35B-9814086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F78-0026-4C78-9CBA-F2D8F4F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E1AC4-8713-4C78-AF9C-219BA76B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B28F-FA25-443F-A6D8-C1B7B61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9AD1-503E-435E-BF99-C4DFA26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40F01-F16C-4E72-A7F6-B767886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544F-10B7-45ED-81E4-22D0F737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4BCB-3B32-4F64-B521-E5E3094E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A28D-A724-4BCC-ABFD-DA6A8B78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D63A7-7F62-498E-83CF-8F880D6E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BE5B2-BD0C-4858-8282-B20D205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DFA6-A544-4A7F-8364-0540967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94F-E637-4172-BD9C-2E9C13D7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303-16E1-42D2-A3A0-B666842DD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11C-770E-49EB-AF10-AB3F7CEB0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C25-48E6-44A0-9FAB-65B4CDB0A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2BA-C17B-482F-B556-789F6876B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34B-DB16-4155-9454-A12307364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685-6438-4E29-80BC-02D8DDDC1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F50-31F1-4A38-B4D8-781322A72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DEEC-48EE-4122-94CC-580C22A30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C782-32DF-4EE6-BC2A-EE056224A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CE9-1862-471A-A9E2-95F73C0AE5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7DE-8DE5-4314-A8D5-48F3DD4DB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19FB-1E9A-400A-A9EF-0A8B169D0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017-4BB4-4482-BFB9-97EE42BDA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AFBB-8165-41D0-A08F-8147DCD0B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9C18-A51E-4D8A-B045-98FCB6FFA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CCC-9FD0-40B2-BCA5-190FAECDB8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4F6-50FB-4208-A02B-25AE7AC48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743-9B77-4692-8776-547F6A1F7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609-778A-4EC9-92ED-9F6CF94D4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E577-FE07-4BA1-A88A-CE1461E64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6E5D-0466-45FB-AC86-56987BEFE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ED4D-A3C5-4F91-AEEC-3A8A79903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759-DA4A-47AA-BCFC-B4EF2A1F4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CC2F-4FEB-482E-8327-2F053EB7A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7363-5DC6-4242-8706-A91E62C79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D76E-6D66-407F-B70E-CD217CD8C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D42-DDD4-41BF-A00C-A756DE82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E55-9D52-4C8D-94C3-01F73ED63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58F-38AE-4CBC-AB95-E8FB610F8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5B6-2EC6-45F3-810A-9F5B08BF2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1B9-1F4F-4506-8C07-13281213A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85B-B3D7-4310-B3D4-777699D665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F8E-70EA-4619-BD6D-3D7E23BA08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F49-EA96-43AC-850C-1009A5B1E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494-F1FD-41FB-B280-102B96103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006-3E51-43C7-8B1D-2785490DF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ADF-11F4-4BD7-B701-06D3D6587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F1D-55D2-4E34-9163-8931B925E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9FB-2FF2-4B23-91DE-52C2D9D055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90600" y="3166920"/>
            <a:ext cx="4762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00040" y="919080"/>
            <a:ext cx="81439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09680" y="1004760"/>
            <a:ext cx="83246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80960" y="866880"/>
            <a:ext cx="8182080" cy="5124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5214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5715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0520" cy="55911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1000080" y="857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16430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"/>
          <p:cNvSpPr/>
          <p:nvPr/>
        </p:nvSpPr>
        <p:spPr>
          <a:xfrm>
            <a:off x="928800" y="2071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"/>
          <p:cNvSpPr/>
          <p:nvPr/>
        </p:nvSpPr>
        <p:spPr>
          <a:xfrm>
            <a:off x="1000080" y="2500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"/>
          <p:cNvSpPr/>
          <p:nvPr/>
        </p:nvSpPr>
        <p:spPr>
          <a:xfrm>
            <a:off x="92880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7"/>
          <p:cNvSpPr/>
          <p:nvPr/>
        </p:nvSpPr>
        <p:spPr>
          <a:xfrm>
            <a:off x="928800" y="4071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"/>
          <p:cNvSpPr/>
          <p:nvPr/>
        </p:nvSpPr>
        <p:spPr>
          <a:xfrm>
            <a:off x="928800" y="4929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9"/>
          <p:cNvSpPr/>
          <p:nvPr/>
        </p:nvSpPr>
        <p:spPr>
          <a:xfrm>
            <a:off x="1000080" y="5643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01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42800" y="766800"/>
            <a:ext cx="8258400" cy="53244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928800" y="4572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04720" y="1190520"/>
            <a:ext cx="8134560" cy="447696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000080" y="1214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000080" y="2428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928800" y="3643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14440" y="1209600"/>
            <a:ext cx="8115120" cy="443880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928880" y="24289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117440" y="5249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61880" y="2014560"/>
            <a:ext cx="8220240" cy="28288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5214960" y="2786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6143760" y="3571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4572000" y="4357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9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